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millionaire1.wav" ContentType="audio/x-wav"/>
  <Override PartName="/ppt/media/image13.png" ContentType="image/png"/>
  <Override PartName="/ppt/media/image7.png" ContentType="image/png"/>
  <Override PartName="/ppt/media/image6.png" ContentType="image/png"/>
  <Override PartName="/ppt/media/score1.wav" ContentType="audio/x-wav"/>
  <Override PartName="/ppt/media/ccheer.wav" ContentType="audio/x-wav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Webding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B545E-43C1-4739-811B-40C5AA85E18B}" type="slidenum">
              <a:rPr b="0" lang="en-GB" sz="1200" spc="-1" strike="noStrike">
                <a:solidFill>
                  <a:srgbClr val="ffffff"/>
                </a:solidFill>
                <a:latin typeface="Webding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E564E-F808-43C2-AEFE-9D9F8977F436}" type="slidenum">
              <a:rPr b="0" lang="en-GB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DBF3-5E47-41B2-9417-682DD3EEB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DB88-13F7-461D-9829-2BDD0942A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8544-BEE3-4366-8932-36B703069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2B43-9655-48B7-B823-845CD89C24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DB34-552F-4704-8661-D3B29F559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37B3-0EBF-4E7A-8BAD-A78A1ECCD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F3C4-A0B8-4712-9B59-342270578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22A4-9557-49EA-A1CD-D13D6D505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4BB2-F85B-4A05-B52B-C78A38BC3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E5B9-838B-4978-A48C-264A3664F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E559-0D87-42FD-86A8-CE771550C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D8E3-7241-42B9-AFB9-30CE7D903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B3D44-0975-4A80-B112-FFF172495D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2.png"/><Relationship Id="rId19" Type="http://schemas.openxmlformats.org/officeDocument/2006/relationships/audio" Target="../media/millionaire1.wav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12.png"/><Relationship Id="rId11" Type="http://schemas.openxmlformats.org/officeDocument/2006/relationships/slide" Target="slide37.xm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laugh%20track.wav" TargetMode="External"/><Relationship Id="rId14" Type="http://schemas.openxmlformats.org/officeDocument/2006/relationships/slide" Target="slide32.xml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audio" Target="../media/millionaire1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6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7.xm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audio" Target="../media/millionaire1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12.png"/><Relationship Id="rId11" Type="http://schemas.openxmlformats.org/officeDocument/2006/relationships/slide" Target="slide37.xm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laugh%20track.wav" TargetMode="External"/><Relationship Id="rId14" Type="http://schemas.openxmlformats.org/officeDocument/2006/relationships/slide" Target="slide32.xml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audio" Target="../media/millionaire1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12.png"/><Relationship Id="rId11" Type="http://schemas.openxmlformats.org/officeDocument/2006/relationships/slide" Target="slide37.xm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laugh%20track.wav" TargetMode="External"/><Relationship Id="rId14" Type="http://schemas.openxmlformats.org/officeDocument/2006/relationships/slide" Target="slide32.xml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audio" Target="../media/millionaire1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12.png"/><Relationship Id="rId11" Type="http://schemas.openxmlformats.org/officeDocument/2006/relationships/slide" Target="slide37.xm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laugh%20track.wav" TargetMode="External"/><Relationship Id="rId14" Type="http://schemas.openxmlformats.org/officeDocument/2006/relationships/slide" Target="slide32.xml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audio" Target="../media/millionaire1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score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295280" y="457200"/>
            <a:ext cx="6645240" cy="5867280"/>
            <a:chOff x="1295280" y="457200"/>
            <a:chExt cx="6645240" cy="58672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"/>
              <a:ext cx="664524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2220840" y="3700440"/>
              <a:ext cx="4908600" cy="303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76212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943600" y="571500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617220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54200" y="1303200"/>
            <a:ext cx="4435200" cy="4411800"/>
            <a:chOff x="754200" y="1303200"/>
            <a:chExt cx="4435200" cy="44118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754200" y="13032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371600" y="37418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468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1450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Tahoma"/>
                <a:ea typeface="Tahoma"/>
              </a:rPr>
              <a:t>The equity section of a partnership </a:t>
            </a:r>
            <a:endParaRPr b="0" lang="en-US" sz="31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Tahoma"/>
                <a:ea typeface="Tahoma"/>
              </a:rPr>
              <a:t>Balance sheet is called:</a:t>
            </a:r>
            <a:endParaRPr b="0" lang="en-US" sz="31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.)T. Dagg, Capital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ahoma"/>
              </a:rPr>
              <a:t>B.) Partnership equity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.) Shareholder’s equity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D.) Owner’s equity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2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102" dur="indefinite" restart="never" fill="hold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1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943600" y="536904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477120" y="5832360"/>
            <a:ext cx="152280" cy="433440"/>
            <a:chOff x="6477120" y="5832360"/>
            <a:chExt cx="152280" cy="433440"/>
          </a:xfrm>
        </p:grpSpPr>
        <p:sp>
          <p:nvSpPr>
            <p:cNvPr id="132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54200" y="1262160"/>
            <a:ext cx="4435200" cy="4411440"/>
            <a:chOff x="754200" y="1262160"/>
            <a:chExt cx="4435200" cy="441144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754200" y="1262160"/>
              <a:ext cx="4435200" cy="44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1371600" y="37004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0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468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450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llowing are advantages of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Partnerships, except: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.) Division of operating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ponsibility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.) Mutual Agency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.) Easy formation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.) Pooled skill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3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143" dur="indefinite" restart="never" fill="hold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1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943600" y="500544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477120" y="5486400"/>
            <a:ext cx="152280" cy="779400"/>
            <a:chOff x="6477120" y="5486400"/>
            <a:chExt cx="152280" cy="779400"/>
          </a:xfrm>
        </p:grpSpPr>
        <p:sp>
          <p:nvSpPr>
            <p:cNvPr id="156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54200" y="1150920"/>
            <a:ext cx="4435200" cy="4411800"/>
            <a:chOff x="754200" y="1150920"/>
            <a:chExt cx="4435200" cy="441180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754200" y="115092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1371600" y="358920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0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567320" y="533556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09480" y="1638360"/>
            <a:ext cx="8001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MS Gothic"/>
              </a:rPr>
              <a:t>When forming a partnership, assets should be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MS Gothic"/>
              </a:rPr>
              <a:t>Valued at: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NRA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NBV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Liquidity Valuation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FMV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5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2133720" y="7315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184" dur="indefinite" restart="never" fill="hold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943600" y="464832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477120" y="5122800"/>
            <a:ext cx="152280" cy="1143000"/>
            <a:chOff x="6477120" y="5122800"/>
            <a:chExt cx="152280" cy="1143000"/>
          </a:xfrm>
        </p:grpSpPr>
        <p:sp>
          <p:nvSpPr>
            <p:cNvPr id="181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54200" y="1150920"/>
            <a:ext cx="4435200" cy="4411800"/>
            <a:chOff x="754200" y="1150920"/>
            <a:chExt cx="4435200" cy="441180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754200" y="115092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 txBox="1"/>
            <p:nvPr/>
          </p:nvSpPr>
          <p:spPr>
            <a:xfrm>
              <a:off x="1371600" y="358920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0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09480" y="15238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o record a payment of a deficiency, the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Journal entry would be: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1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2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DR Capital, Non Deficient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R Capital, Deficient Partner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DR Cash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R Capital, Deficient Partner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DR Cash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R Capital, Non Deficient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DR Cash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R Deficiency Expense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,000 question</a:t>
            </a:r>
            <a:endParaRPr b="0" lang="en-US" sz="2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8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9" name="millionaire1.wav"/>
      </p:stSnd>
    </p:sndAc>
  </p:transition>
  <p:timing>
    <p:tnLst>
      <p:par>
        <p:cTn id="225" dur="indefinite" restart="never" fill="hold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1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943600" y="43084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77120" y="4759200"/>
            <a:ext cx="152280" cy="1506600"/>
            <a:chOff x="6477120" y="4759200"/>
            <a:chExt cx="152280" cy="1506600"/>
          </a:xfrm>
        </p:grpSpPr>
        <p:sp>
          <p:nvSpPr>
            <p:cNvPr id="212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dur="indefinite" fill="hold">
                      <p:stCondLst>
                        <p:cond delay="0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4567320" y="536580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) bonus to remaining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Something fishy with the accounting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A bonus to the general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A bonus to the existing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Tahoma"/>
              </a:rPr>
              <a:t>When admitting a new partner, if the investment</a:t>
            </a:r>
            <a:endParaRPr b="0" lang="en-US" sz="23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Tahoma"/>
              </a:rPr>
              <a:t>Is greater than the capital credit there is:</a:t>
            </a:r>
            <a:endParaRPr b="0" lang="en-US" sz="23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2,000 question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266" dur="indefinite" restart="never" fill="hold">
          <p:childTnLst>
            <p:seq>
              <p:cTn id="267" dur="indefinite" nodeType="mainSeq">
                <p:childTnLst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1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The Game</a:t>
            </a:r>
            <a:endParaRPr b="0" lang="en-US" sz="4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77724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and your team members will be asked to answer a series of questions which will increase in dollar value ($100 - $1,000,000) and difficulty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team to reach the highest level of $ and answer the question correctly wins the game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ch of you will be required to come up and answer 4 questions on behalf of your team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y ONE of your team members may use any of the team’s remaining lifelines if they wish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ood Luck!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3600" y="39448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477120" y="4402080"/>
            <a:ext cx="152280" cy="1863720"/>
            <a:chOff x="6477120" y="4402080"/>
            <a:chExt cx="152280" cy="1863720"/>
          </a:xfrm>
        </p:grpSpPr>
        <p:sp>
          <p:nvSpPr>
            <p:cNvPr id="239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0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-81000" y="533412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9480" y="1625760"/>
            <a:ext cx="80010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The second step in liquidating a partnership is: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Pay liabilities in cash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Distribute remaining cash to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Allocate gains/losses to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) Pay liabilities with liquid asset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0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4,000 question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307" dur="indefinite" restart="never" fill="hold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1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943600" y="35812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477120" y="4062240"/>
            <a:ext cx="152280" cy="2203560"/>
            <a:chOff x="6477120" y="4062240"/>
            <a:chExt cx="152280" cy="2203560"/>
          </a:xfrm>
        </p:grpSpPr>
        <p:sp>
          <p:nvSpPr>
            <p:cNvPr id="267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7120" y="4062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0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144000" cy="1834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09480" y="15238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T. Dagg had beginning capital of $52000, 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drawings of $12000, net income of $44000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shared equally with one other partner, utility bill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payment of $500, investments of $2000. What is her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ending capital?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.) $86000</a:t>
            </a:r>
            <a:endParaRPr b="0" lang="en-US" sz="1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B.)$64000</a:t>
            </a:r>
            <a:endParaRPr b="0" lang="en-US" sz="1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37048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.) $85500</a:t>
            </a:r>
            <a:endParaRPr b="0" lang="en-US" sz="1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.) $63500</a:t>
            </a:r>
            <a:endParaRPr b="0" lang="en-US" sz="1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8,0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348" dur="indefinite" restart="never" fill="hold">
          <p:childTnLst>
            <p:seq>
              <p:cTn id="349" dur="indefinite" nodeType="mainSeq">
                <p:childTnLst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943600" y="323532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477120" y="3692520"/>
            <a:ext cx="152280" cy="2573280"/>
            <a:chOff x="6477120" y="3692520"/>
            <a:chExt cx="152280" cy="2573280"/>
          </a:xfrm>
        </p:grpSpPr>
        <p:sp>
          <p:nvSpPr>
            <p:cNvPr id="296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7120" y="4753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77120" y="4389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77120" y="369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dur="indefinite" fill="hold">
                      <p:stCondLst>
                        <p:cond delay="0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4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4567320" y="53402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20120" y="6473880"/>
            <a:ext cx="444240" cy="307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064360" y="6478560"/>
            <a:ext cx="470160" cy="3031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13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17" name="">
            <a:hlinkClick r:id="rId14" action="ppaction://hlinksldjump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artnership of Fehr and Selig reports net income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f $30,000. The partners share equally in income and losses.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entry to record the partners' share of net income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ill include a: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.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redit to Income Summary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or $30,000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.)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ebit to Selig, Capital for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15,000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.)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redit to Fehr, Drawings for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15,000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.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redit to Fehr, Capital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15,000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905120" y="228600"/>
            <a:ext cx="3733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6,000 question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7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8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9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0" name="millionaire1.wav"/>
      </p:stSnd>
    </p:sndAc>
  </p:transition>
  <p:timing>
    <p:tnLst>
      <p:par>
        <p:cTn id="389" dur="indefinite" restart="never" fill="hold">
          <p:childTnLst>
            <p:seq>
              <p:cTn id="390" dur="indefinite" nodeType="mainSeq">
                <p:childTnLst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1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867280" y="2854440"/>
            <a:ext cx="266724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477120" y="3335400"/>
            <a:ext cx="152280" cy="2930400"/>
            <a:chOff x="6477120" y="3335400"/>
            <a:chExt cx="152280" cy="2930400"/>
          </a:xfrm>
        </p:grpSpPr>
        <p:sp>
          <p:nvSpPr>
            <p:cNvPr id="330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7120" y="4395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77120" y="33354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dur="indefinite" fill="hold">
                      <p:stCondLst>
                        <p:cond delay="0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5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-81000" y="531828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rtner A receives $60,000 and Partner B receiv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40,000 in a split of $100,000 net income. Whi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es not reflect the income splitting arrangement?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.) 3:2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.) 3/5 and 2/5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53532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.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:1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.) 6:4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905120" y="228600"/>
            <a:ext cx="39621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32,0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430" dur="indefinite" restart="never" fill="hold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dur="indefinite" fill="hold">
                      <p:stCondLst>
                        <p:cond delay="indefinite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dur="indefinite" fill="hold">
                      <p:stCondLst>
                        <p:cond delay="indefinite"/>
                      </p:stCondLst>
                      <p:childTnLst>
                        <p:par>
                          <p:cTn id="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867280" y="25146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477120" y="2978280"/>
            <a:ext cx="152280" cy="3287520"/>
            <a:chOff x="6477120" y="2978280"/>
            <a:chExt cx="152280" cy="3287520"/>
          </a:xfrm>
        </p:grpSpPr>
        <p:sp>
          <p:nvSpPr>
            <p:cNvPr id="361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7120" y="4408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77120" y="4038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77120" y="33177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77120" y="2978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dur="indefinite" fill="hold">
                      <p:stCondLst>
                        <p:cond delay="0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6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144000" cy="1834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-81000" y="457524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09480" y="1450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he partners’ drawing accounts are: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46483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A.)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losed to the partners’ capital 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ccounts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3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.) Reported on the income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tatement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5410080"/>
            <a:ext cx="3581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.)  Reported on the balance sheet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54100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D.) Closed to Income Summary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905120" y="228600"/>
            <a:ext cx="4952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64,0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471" dur="indefinite" restart="never" fill="hold">
          <p:childTnLst>
            <p:seq>
              <p:cTn id="472" dur="indefinite" nodeType="mainSeq">
                <p:childTnLst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1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dur="indefinite" fill="hold">
                      <p:stCondLst>
                        <p:cond delay="indefinite"/>
                      </p:stCondLst>
                      <p:childTnLst>
                        <p:par>
                          <p:cTn id="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dur="indefinite" fill="hold">
                      <p:stCondLst>
                        <p:cond delay="indefinite"/>
                      </p:stCondLst>
                      <p:childTnLst>
                        <p:par>
                          <p:cTn id="4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dur="indefinite" fill="hold">
                      <p:stCondLst>
                        <p:cond delay="indefinite"/>
                      </p:stCondLst>
                      <p:childTnLst>
                        <p:par>
                          <p:cTn id="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dur="indefinite" fill="hold">
                      <p:stCondLst>
                        <p:cond delay="indefinite"/>
                      </p:stCondLst>
                      <p:childTnLst>
                        <p:par>
                          <p:cTn id="4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Impact"/>
              </a:rPr>
              <a:t>Your Lifelines</a:t>
            </a:r>
            <a:endParaRPr b="0" lang="en-US" sz="60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rcRect l="51648" t="21878" r="43608" b="72929"/>
          <a:stretch/>
        </p:blipFill>
        <p:spPr>
          <a:xfrm>
            <a:off x="685800" y="2133720"/>
            <a:ext cx="2514600" cy="207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-38088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-380880" y="5181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 action="ppaction://hlinksldjump"/>
          </p:cNvPr>
          <p:cNvPicPr/>
          <p:nvPr/>
        </p:nvPicPr>
        <p:blipFill>
          <a:blip r:embed="rId6"/>
          <a:srcRect l="61150" t="21878" r="34254" b="72929"/>
          <a:stretch/>
        </p:blipFill>
        <p:spPr>
          <a:xfrm>
            <a:off x="5867280" y="2133720"/>
            <a:ext cx="2438640" cy="207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 action="ppaction://hlinksldjump"/>
          </p:cNvPr>
          <p:cNvPicPr/>
          <p:nvPr/>
        </p:nvPicPr>
        <p:blipFill>
          <a:blip r:embed="rId8"/>
          <a:srcRect l="56687" t="21878" r="39001" b="72929"/>
          <a:stretch/>
        </p:blipFill>
        <p:spPr>
          <a:xfrm>
            <a:off x="3352680" y="2133720"/>
            <a:ext cx="2286000" cy="207000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7315200" y="54864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5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5" y="20200"/>
                </a:lnTo>
                <a:lnTo>
                  <a:pt x="27395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5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5" h="21600">
                <a:moveTo>
                  <a:pt x="7391" y="3794"/>
                </a:moveTo>
                <a:lnTo>
                  <a:pt x="21404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 Black"/>
                <a:ea typeface="Tahoma"/>
              </a:rPr>
              <a:t>Let’s Play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4267080" y="731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701028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16002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867280" y="21510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477120" y="2611440"/>
            <a:ext cx="152280" cy="3654360"/>
            <a:chOff x="6477120" y="2611440"/>
            <a:chExt cx="152280" cy="3654360"/>
          </a:xfrm>
        </p:grpSpPr>
        <p:sp>
          <p:nvSpPr>
            <p:cNvPr id="393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7120" y="51195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7120" y="47563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77120" y="43988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7120" y="40417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77120" y="3672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77120" y="3308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77120" y="2951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77120" y="26114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406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dur="indefinite" fill="hold">
                      <p:stCondLst>
                        <p:cond delay="0"/>
                      </p:stCondLst>
                      <p:childTnLst>
                        <p:par>
                          <p:cTn id="5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7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-81000" y="457200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09480" y="1612800"/>
            <a:ext cx="80010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The Cliff and Mohumad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agreement stipulates that profits and losses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will be shared  equally after salary allowances of $40,000 for Cliff and $20,000 for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humad. At the beginning  of the year, Cliff's Capital account had a balance of $80,000,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while Mohumad's Capital  account had a balance of $70,000. Net income for the year was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$50,000. The balance of Mohumad's Capital account at the end of the year after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losing is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0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$85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46483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B.) $90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C.) $95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54100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$20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905120" y="22860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25,000 question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3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4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5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6" name="millionaire1.wav"/>
      </p:stSnd>
    </p:sndAc>
  </p:transition>
  <p:timing>
    <p:tnLst>
      <p:par>
        <p:cTn id="512" dur="indefinite" restart="never" fill="hold">
          <p:childTnLst>
            <p:seq>
              <p:cTn id="513" dur="indefinite" nodeType="mainSeq">
                <p:childTnLst>
                  <p:par>
                    <p:cTn id="514" dur="indefinite" fill="hold">
                      <p:stCondLst>
                        <p:cond delay="indefinite"/>
                      </p:stCondLst>
                      <p:childTnLst>
                        <p:par>
                          <p:cTn id="5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dur="indefinite" fill="hold">
                      <p:stCondLst>
                        <p:cond delay="indefinite"/>
                      </p:stCondLst>
                      <p:childTnLst>
                        <p:par>
                          <p:cTn id="5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dur="indefinite" fill="hold">
                      <p:stCondLst>
                        <p:cond delay="indefinite"/>
                      </p:stCondLst>
                      <p:childTnLst>
                        <p:par>
                          <p:cTn id="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867280" y="17874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477120" y="2257560"/>
            <a:ext cx="152280" cy="4008240"/>
            <a:chOff x="6477120" y="2257560"/>
            <a:chExt cx="152280" cy="4008240"/>
          </a:xfrm>
        </p:grpSpPr>
        <p:sp>
          <p:nvSpPr>
            <p:cNvPr id="429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7120" y="4764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7120" y="4417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7120" y="40514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2973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77120" y="2603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77120" y="2257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dur="indefinite" fill="hold">
                      <p:stCondLst>
                        <p:cond delay="0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8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-81000" y="534528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20120" y="6473880"/>
            <a:ext cx="444240" cy="307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064360" y="6478560"/>
            <a:ext cx="470160" cy="30312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rId13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5" name="">
            <a:hlinkClick r:id="rId14" action="ppaction://hlinksldjump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0574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ane and Ping have partnership capital account balanc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f $120,000 and $90,000, respectively and share profits and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osses equally. Sue is admitted to the partnership by investing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50,000 for a one-fourth ownership interest. The balance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f Ping's Capital account after Sue is admitted i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$975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$65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    $825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60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$90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905120" y="22860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250,000 question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7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8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9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0" name="millionaire1.wav"/>
      </p:stSnd>
    </p:sndAc>
  </p:transition>
  <p:timing>
    <p:tnLst>
      <p:par>
        <p:cTn id="553" dur="indefinite" restart="never" fill="hold">
          <p:childTnLst>
            <p:seq>
              <p:cTn id="554" dur="indefinite" nodeType="mainSeq">
                <p:childTnLst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8" dur="1000" fill="hold"/>
                                        <p:tgtEl>
                                          <p:spTgt spid="4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dur="indefinite" fill="hold">
                      <p:stCondLst>
                        <p:cond delay="indefinite"/>
                      </p:stCondLst>
                      <p:childTnLst>
                        <p:par>
                          <p:cTn id="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dur="indefinite" fill="hold">
                      <p:stCondLst>
                        <p:cond delay="indefinite"/>
                      </p:stCondLst>
                      <p:childTnLst>
                        <p:par>
                          <p:cTn id="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dur="indefinite" fill="hold">
                      <p:stCondLst>
                        <p:cond delay="indefinite"/>
                      </p:stCondLst>
                      <p:childTnLst>
                        <p:par>
                          <p:cTn id="5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dur="indefinite" fill="hold">
                      <p:stCondLst>
                        <p:cond delay="indefinite"/>
                      </p:stCondLst>
                      <p:childTnLst>
                        <p:par>
                          <p:cTn id="5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dur="indefinite" fill="hold">
                      <p:stCondLst>
                        <p:cond delay="indefinite"/>
                      </p:stCondLst>
                      <p:childTnLst>
                        <p:par>
                          <p:cTn id="5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867280" y="143028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477120" y="1893960"/>
            <a:ext cx="152280" cy="4371840"/>
            <a:chOff x="6477120" y="1893960"/>
            <a:chExt cx="152280" cy="4371840"/>
          </a:xfrm>
        </p:grpSpPr>
        <p:sp>
          <p:nvSpPr>
            <p:cNvPr id="468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44006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7120" y="3691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77120" y="3324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77120" y="2239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77120" y="1893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484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dur="indefinite" fill="hold">
                      <p:stCondLst>
                        <p:cond delay="0"/>
                      </p:stCondLst>
                      <p:childTnLst>
                        <p:par>
                          <p:cTn id="5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9" dur="500" fill="hold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1524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4572000" y="536580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09480" y="1441440"/>
            <a:ext cx="80010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Partners A, B, and C have capital account balances of </a:t>
            </a:r>
            <a:endParaRPr b="0" lang="en-US" sz="19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$60,000 each. The income and loss ratio is 5:2:3, respectively. </a:t>
            </a:r>
            <a:endParaRPr b="0" lang="en-US" sz="19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n the process of liquidating the partnership, noncash assets with</a:t>
            </a:r>
            <a:endParaRPr b="0" lang="en-US" sz="19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a book value of $50,000 are sold for $20,000. The balance of </a:t>
            </a:r>
            <a:endParaRPr b="0" lang="en-US" sz="19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Partner B's Capital account after the sale i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$45000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$66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6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$51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$54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6002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500,0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594" dur="indefinite" restart="never" fill="hold">
          <p:childTnLst>
            <p:seq>
              <p:cTn id="595" dur="indefinite" nodeType="mainSeq">
                <p:childTnLst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9" dur="1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dur="indefinite" fill="hold">
                      <p:stCondLst>
                        <p:cond delay="indefinite"/>
                      </p:stCondLst>
                      <p:childTnLst>
                        <p:par>
                          <p:cTn id="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dur="indefinite" fill="hold">
                      <p:stCondLst>
                        <p:cond delay="indefinite"/>
                      </p:stCondLst>
                      <p:childTnLst>
                        <p:par>
                          <p:cTn id="6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dur="indefinite" fill="hold">
                      <p:stCondLst>
                        <p:cond delay="indefinite"/>
                      </p:stCondLst>
                      <p:childTnLst>
                        <p:par>
                          <p:cTn id="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dur="indefinite" fill="hold">
                      <p:stCondLst>
                        <p:cond delay="indefinite"/>
                      </p:stCondLst>
                      <p:childTnLst>
                        <p:par>
                          <p:cTn id="6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867280" y="1073160"/>
            <a:ext cx="2971800" cy="3049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477120" y="1536840"/>
            <a:ext cx="152280" cy="4728960"/>
            <a:chOff x="6477120" y="1536840"/>
            <a:chExt cx="152280" cy="4728960"/>
          </a:xfrm>
        </p:grpSpPr>
        <p:sp>
          <p:nvSpPr>
            <p:cNvPr id="505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77120" y="40435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77120" y="3697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7120" y="33336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77120" y="225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7120" y="188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77120" y="1536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dur="indefinite" fill="hold">
                      <p:stCondLst>
                        <p:cond delay="0"/>
                      </p:stCondLst>
                      <p:childTnLst>
                        <p:par>
                          <p:cTn id="6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0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4500720" y="4564080"/>
            <a:ext cx="4647960" cy="655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4567320" y="533556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20120" y="6473880"/>
            <a:ext cx="444240" cy="3078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064360" y="6478560"/>
            <a:ext cx="470160" cy="303120"/>
          </a:xfrm>
          <a:prstGeom prst="rect">
            <a:avLst/>
          </a:prstGeom>
          <a:ln w="0">
            <a:noFill/>
          </a:ln>
        </p:spPr>
      </p:pic>
      <p:sp>
        <p:nvSpPr>
          <p:cNvPr id="532" name="">
            <a:hlinkClick r:id="rId13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3" name="">
            <a:hlinkClick r:id="rId14" action="ppaction://hlinksldjump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1752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ich of the following teachers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 your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favourit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business teacher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t WOSS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5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.) Mr. Bhathal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.) Mr. Huitema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.) Ms. Ivey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53802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.) Ms. Dag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371600" y="228600"/>
            <a:ext cx="74674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,000,000 question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7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8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9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0" name="millionaire1.wav"/>
      </p:stSnd>
    </p:sndAc>
  </p:transition>
  <p:timing>
    <p:tnLst>
      <p:par>
        <p:cTn id="635" dur="indefinite" restart="never" fill="hold">
          <p:childTnLst>
            <p:seq>
              <p:cTn id="636" dur="indefinite" nodeType="mainSeq">
                <p:childTnLst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0" dur="1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dur="indefinite" fill="hold">
                      <p:stCondLst>
                        <p:cond delay="indefinite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dur="indefinite" fill="hold">
                      <p:stCondLst>
                        <p:cond delay="indefinite"/>
                      </p:stCondLst>
                      <p:childTnLst>
                        <p:par>
                          <p:cTn id="6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fill="hold">
                      <p:stCondLst>
                        <p:cond delay="indefinite"/>
                      </p:stCondLst>
                      <p:childTnLst>
                        <p:par>
                          <p:cTn id="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dur="indefinite" fill="hold">
                      <p:stCondLst>
                        <p:cond delay="indefinite"/>
                      </p:stCondLst>
                      <p:childTnLst>
                        <p:par>
                          <p:cTn id="6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dur="indefinite" fill="hold">
                      <p:stCondLst>
                        <p:cond delay="indefinite"/>
                      </p:stCondLst>
                      <p:childTnLst>
                        <p:par>
                          <p:cTn id="6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867280" y="1073160"/>
            <a:ext cx="2971800" cy="3049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477120" y="1536840"/>
            <a:ext cx="152280" cy="4728960"/>
            <a:chOff x="6477120" y="1536840"/>
            <a:chExt cx="152280" cy="4728960"/>
          </a:xfrm>
        </p:grpSpPr>
        <p:sp>
          <p:nvSpPr>
            <p:cNvPr id="546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77120" y="40435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77120" y="3697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7120" y="33336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77120" y="225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77120" y="188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77120" y="1536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dur="indefinite" fill="hold">
                      <p:stCondLst>
                        <p:cond delay="0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1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6"/>
          <a:stretch/>
        </p:blipFill>
        <p:spPr>
          <a:xfrm>
            <a:off x="4567320" y="533556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20120" y="6473880"/>
            <a:ext cx="444240" cy="3078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064360" y="6478560"/>
            <a:ext cx="470160" cy="303120"/>
          </a:xfrm>
          <a:prstGeom prst="rect">
            <a:avLst/>
          </a:prstGeom>
          <a:ln w="0">
            <a:noFill/>
          </a:ln>
        </p:spPr>
      </p:pic>
      <p:sp>
        <p:nvSpPr>
          <p:cNvPr id="573" name="">
            <a:hlinkClick r:id="rId13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4" name="">
            <a:hlinkClick r:id="rId14" action="ppaction://hlinksldjump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5" name=""/>
          <p:cNvSpPr/>
          <p:nvPr/>
        </p:nvSpPr>
        <p:spPr>
          <a:xfrm>
            <a:off x="1143000" y="18288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Given the following information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out ABC Company, what is their Quick Ratio?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ash = $1,000,000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/P = $1,2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IC’s/Stocks/Bonds = $500,000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N/P (3 month) = $8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/R (net) = $500,000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ank Loan (5 yr) = $6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upplies = $ 300,000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Mortgage (20 yr.) = $75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Merch. Inventory = $2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Land = $1,000,000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uilding = $2,0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.5:1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7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.25 :1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.15:1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9" name=""/>
          <p:cNvSpPr/>
          <p:nvPr/>
        </p:nvSpPr>
        <p:spPr>
          <a:xfrm>
            <a:off x="4876920" y="53802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371600" y="228600"/>
            <a:ext cx="74674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,000,000 question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7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18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19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0" name="millionaire1.wav"/>
      </p:stSnd>
    </p:sndAc>
  </p:transition>
  <p:timing>
    <p:tnLst>
      <p:par>
        <p:cTn id="676" dur="indefinite" restart="never" fill="hold">
          <p:childTnLst>
            <p:seq>
              <p:cTn id="677" dur="indefinite" nodeType="mainSeq">
                <p:childTnLst>
                  <p:par>
                    <p:cTn id="678" dur="indefinite" fill="hold">
                      <p:stCondLst>
                        <p:cond delay="indefinite"/>
                      </p:stCondLst>
                      <p:childTnLst>
                        <p:par>
                          <p:cTn id="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1" dur="1000" fill="hold"/>
                                        <p:tgtEl>
                                          <p:spTgt spid="5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dur="indefinite" fill="hold">
                      <p:stCondLst>
                        <p:cond delay="indefinite"/>
                      </p:stCondLst>
                      <p:childTnLst>
                        <p:par>
                          <p:cTn id="6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dur="indefinite" fill="hold">
                      <p:stCondLst>
                        <p:cond delay="indefinite"/>
                      </p:stCondLst>
                      <p:childTnLst>
                        <p:par>
                          <p:cTn id="6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dur="indefinite" fill="hold">
                      <p:stCondLst>
                        <p:cond delay="indefinite"/>
                      </p:stCondLst>
                      <p:childTnLst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dur="indefinite" fill="hold">
                      <p:stCondLst>
                        <p:cond delay="indefinite"/>
                      </p:stCondLst>
                      <p:childTnLst>
                        <p:par>
                          <p:cTn id="6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dur="indefinite" fill="hold">
                      <p:stCondLst>
                        <p:cond delay="indefinite"/>
                      </p:stCondLst>
                      <p:childTnLst>
                        <p:par>
                          <p:cTn id="7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9625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I will eliminate two of the incorrect answers to help you determine the correct answer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bright="6000"/>
          </a:blip>
          <a:srcRect l="51962" t="21878" r="43320" b="72929"/>
          <a:stretch/>
        </p:blipFill>
        <p:spPr>
          <a:xfrm>
            <a:off x="2743200" y="488880"/>
            <a:ext cx="3733920" cy="30924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8487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002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8" dur="indefinite" restart="never" fill="hold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31338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1143000" y="228600"/>
            <a:ext cx="7010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Tahoma"/>
              </a:rPr>
              <a:t>Congratulations!</a:t>
            </a:r>
            <a:endParaRPr b="0" lang="en-US" sz="6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86" name=""/>
          <p:cNvSpPr/>
          <p:nvPr/>
        </p:nvSpPr>
        <p:spPr>
          <a:xfrm>
            <a:off x="1767240" y="5973840"/>
            <a:ext cx="58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Thank you for playing.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209680" y="1306440"/>
            <a:ext cx="4648320" cy="4667400"/>
            <a:chOff x="2209680" y="1306440"/>
            <a:chExt cx="4648320" cy="4667400"/>
          </a:xfrm>
        </p:grpSpPr>
        <p:pic>
          <p:nvPicPr>
            <p:cNvPr id="588" name="" descr=""/>
            <p:cNvPicPr/>
            <p:nvPr/>
          </p:nvPicPr>
          <p:blipFill>
            <a:blip r:embed="rId2"/>
            <a:stretch/>
          </p:blipFill>
          <p:spPr>
            <a:xfrm>
              <a:off x="2209680" y="1306440"/>
              <a:ext cx="4648320" cy="46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 txBox="1"/>
            <p:nvPr/>
          </p:nvSpPr>
          <p:spPr>
            <a:xfrm>
              <a:off x="2855880" y="3886200"/>
              <a:ext cx="3433680" cy="241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06" dur="indefinite" restart="never" fill="hold">
          <p:childTnLst>
            <p:seq>
              <p:cTn id="707" dur="indefinite" nodeType="mainSeq">
                <p:childTnLst>
                  <p:par>
                    <p:cTn id="708" dur="indefinite" fill="hold">
                      <p:stCondLst>
                        <p:cond delay="indefinite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430524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You will be able to call upon ONE member of your group to ask for help.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56396" t="21878" r="38857" b="72929"/>
          <a:stretch/>
        </p:blipFill>
        <p:spPr>
          <a:xfrm>
            <a:off x="2362320" y="461880"/>
            <a:ext cx="4343400" cy="35766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78487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4582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fill="hold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4419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You will be permitted to survey your entire team to find out their choice.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61291" t="21878" r="34254" b="72929"/>
          <a:stretch/>
        </p:blipFill>
        <p:spPr>
          <a:xfrm>
            <a:off x="2286000" y="457200"/>
            <a:ext cx="4343400" cy="38070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8487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4582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fill="hold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3300"/>
                </a:solidFill>
                <a:latin typeface="Tahoma"/>
              </a:rPr>
              <a:t>Let’s Play</a:t>
            </a:r>
            <a:endParaRPr b="0" lang="en-US" sz="4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354400" y="1752480"/>
            <a:ext cx="4435200" cy="4411800"/>
            <a:chOff x="2354400" y="1752480"/>
            <a:chExt cx="4435200" cy="44118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354400" y="175248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 txBox="1"/>
            <p:nvPr/>
          </p:nvSpPr>
          <p:spPr>
            <a:xfrm>
              <a:off x="2971800" y="419112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372600" y="563868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43600" y="607860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3520" y="1227240"/>
            <a:ext cx="4435200" cy="4411440"/>
            <a:chOff x="533520" y="1227240"/>
            <a:chExt cx="4435200" cy="44114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533520" y="1227240"/>
              <a:ext cx="4435200" cy="44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1150920" y="366552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3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144000" cy="183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-76320" y="534528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1752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w Cen MT"/>
                <a:ea typeface="Tunga"/>
              </a:rPr>
              <a:t>An association of two or more 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w Cen MT"/>
                <a:ea typeface="Tunga"/>
              </a:rPr>
              <a:t>People who run a business is: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A banana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A corporation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C.) A partnership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You can’t have more than one person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17524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57" dur="indefinite" restart="never" fill="hold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Fane</dc:creator>
  <dc:description/>
  <dc:language>en-US</dc:language>
  <cp:lastModifiedBy>Virginia</cp:lastModifiedBy>
  <cp:revision>0</cp:revision>
  <dc:subject/>
  <dc:title>WWTBAM</dc:title>
</cp:coreProperties>
</file>